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126A-7E60-4098-868F-7E7288F1E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7975-FB08-4B0B-9951-E27F88D2E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5B56-2B55-40C4-AA3B-AC62173B2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2EAC1-EF86-4717-B784-FC31D6748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0F3C-5DFE-4B41-9B02-A75A70341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BF20-A9DA-4454-A9A3-161CAA11C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432E-DC80-4331-891D-0CC5AA20C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399A-46A7-4F9F-BE4B-BDA5778AD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F657-A687-42BF-A95E-BF935D7B4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43F8-150F-4B7B-86B6-F3FE05DAE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E3E6-6964-4B6C-8274-8ACF6C96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37FB-2CEA-486E-BE50-AC254A53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085E7-5B57-46CF-8E80-2A92CFD653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43000" y="914400"/>
            <a:ext cx="68580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Lesson 5 How Many?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4400" y="23760"/>
            <a:ext cx="9115200" cy="68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: I have 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ow many ____do you h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:I have 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ow many ______do you h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: I have 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ow many ____do you h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接龙游戏。每个同学手中拿有一定数量的文具，依次进行问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.Follow the tape and read the text 3 ti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听三次录音，读三遍课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.Introduce what things are in your school bag to your friends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向你的朋友介绍你书包里的东西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5772240" y="4191120"/>
            <a:ext cx="3371760" cy="2666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33520" y="2057400"/>
            <a:ext cx="5638680" cy="44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One book,two books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Three books,four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One,two,three,four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</a:rPr>
              <a:t>Five books mor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762120" y="304920"/>
            <a:ext cx="38098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Let's chant!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51240" cy="2590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2743200" y="0"/>
            <a:ext cx="2362320" cy="26766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5257800" y="0"/>
            <a:ext cx="3886200" cy="28465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280" y="2743200"/>
            <a:ext cx="221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penc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00400" y="274320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p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19920" y="2743200"/>
            <a:ext cx="2666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ru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0" y="3581280"/>
            <a:ext cx="3733920" cy="24289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33520" y="5943600"/>
            <a:ext cx="312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cray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4419720" y="3505320"/>
            <a:ext cx="4495680" cy="25430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486400" y="594360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pencil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Ask and answ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A:What’s thi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B:It’s a __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pencil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___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400800" y="1447920"/>
            <a:ext cx="27432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Ga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Let’s fin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秒的时间记忆桌面上的单词卡片，另一名同学将卡片倒扣在桌子上，并打乱顺序。随机翻一张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问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hat’s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3429000"/>
            <a:ext cx="82296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ow many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pencil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do you hav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 have five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pencil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./F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066680" y="0"/>
            <a:ext cx="646776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Pair Wor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A:How many 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pencil</a:t>
            </a:r>
            <a:r>
              <a:rPr b="0" lang="zh-CN" sz="4400" spc="-1" strike="noStrike" u="sng">
                <a:solidFill>
                  <a:srgbClr val="ff0000"/>
                </a:solidFill>
                <a:uFillTx/>
                <a:latin typeface="Arial"/>
              </a:rPr>
              <a:t>s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do you have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B:I have five </a:t>
            </a: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pencil</a:t>
            </a:r>
            <a:r>
              <a:rPr b="0" lang="zh-CN" sz="4400" spc="-1" strike="noStrike" u="sng">
                <a:solidFill>
                  <a:srgbClr val="ff0000"/>
                </a:solidFill>
                <a:uFillTx/>
                <a:latin typeface="Arial"/>
              </a:rPr>
              <a:t>s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./Fiv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4707000"/>
            <a:ext cx="2666880" cy="1998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2819520" y="4648320"/>
            <a:ext cx="2819160" cy="2209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5638680" y="4370400"/>
            <a:ext cx="3505320" cy="248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72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Let’s gues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:Do you have any penci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: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A:How many pencils do you h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:______penci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两个人一组，一个同学拿着铅笔、蜡笔等文具，手背后，另一个同学猜他手中有多少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7T01:15:25Z</dcterms:created>
  <dc:creator>Administrator</dc:creator>
  <dc:description/>
  <dc:language>en-US</dc:language>
  <cp:lastModifiedBy>Windows 用户</cp:lastModifiedBy>
  <dcterms:modified xsi:type="dcterms:W3CDTF">2017-09-28T11:57:39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